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template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89La%20tenda%20beduina"/>
          <p:cNvPicPr/>
          <p:nvPr/>
        </p:nvPicPr>
        <p:blipFill>
          <a:blip r:embed="rId1"/>
          <a:stretch/>
        </p:blipFill>
        <p:spPr>
          <a:xfrm>
            <a:off x="250920" y="2444760"/>
            <a:ext cx="5545080" cy="415764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8"/>
          <p:cNvSpPr/>
          <p:nvPr/>
        </p:nvSpPr>
        <p:spPr>
          <a:xfrm>
            <a:off x="456120" y="476280"/>
            <a:ext cx="486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Verdana"/>
              </a:rPr>
              <a:t>Dio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Verdana"/>
              </a:rPr>
              <a:t>pianta la sua tenda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Verdana"/>
              </a:rPr>
              <a:t>tra gli uomini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494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600" spc="-1" strike="noStrike">
                <a:solidFill>
                  <a:srgbClr val="ff0000"/>
                </a:solidFill>
                <a:latin typeface="BranchingMouse Becker"/>
              </a:rPr>
              <a:t>Buon Natale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292720" y="6237360"/>
            <a:ext cx="385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ffff"/>
                </a:solidFill>
                <a:latin typeface="Verdana"/>
              </a:rPr>
              <a:t>Don Luciano Cantin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24000" y="5516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Dio continua ad incarnarsi negli uomini tutti i giorni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3" descr="ilcirco2"/>
          <p:cNvPicPr/>
          <p:nvPr/>
        </p:nvPicPr>
        <p:blipFill>
          <a:blip r:embed="rId1"/>
          <a:stretch/>
        </p:blipFill>
        <p:spPr>
          <a:xfrm>
            <a:off x="468360" y="2679840"/>
            <a:ext cx="5398920" cy="27907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611280" y="3213000"/>
            <a:ext cx="813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Una tenda.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La tenda: gioco di tessitura e di sostegni, che crea uno spazio di intimità; mezza umanità vive sotto le ten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La vita in tenda è vita precari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: il freddo penetra attraverso le pareti indifese, e il vento si intrufola tra le pelli e i teli, l’acqua tormentosa e penetrante pervade a poco a poco anche l’interno della fragile parete: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la tenda casa del povero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5" descr="Tenda2"/>
          <p:cNvPicPr/>
          <p:nvPr/>
        </p:nvPicPr>
        <p:blipFill>
          <a:blip r:embed="rId1"/>
          <a:stretch/>
        </p:blipFill>
        <p:spPr>
          <a:xfrm>
            <a:off x="0" y="511200"/>
            <a:ext cx="5076720" cy="25938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tenda"/>
          <p:cNvPicPr/>
          <p:nvPr/>
        </p:nvPicPr>
        <p:blipFill>
          <a:blip r:embed="rId1"/>
          <a:stretch/>
        </p:blipFill>
        <p:spPr>
          <a:xfrm>
            <a:off x="0" y="3741840"/>
            <a:ext cx="3600360" cy="3116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0" y="333360"/>
            <a:ext cx="5327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Tend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rifugio, nascondiglio fragile ma provvidenziale: spazio velato di accoglienza, di ospitalità gradita e gradevo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La vita all’ombra e al riparo della tenda è una vita di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chi sa affidars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di gente che non ha bisogno di trovare sicurezza tra pareti di pietra.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Vive in tenda chi ama affrontare la vit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50920" y="3573360"/>
            <a:ext cx="496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Tend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: la nostra vit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Un leggero drappo alla ricerca di un appoggio, di un albero maestro che faccia da pennone,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un sostegno sicuro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perché la nostra tenda diventi ampia e accogli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3" descr="9_tenda_mauritana678989"/>
          <p:cNvPicPr/>
          <p:nvPr/>
        </p:nvPicPr>
        <p:blipFill>
          <a:blip r:embed="rId1"/>
          <a:stretch/>
        </p:blipFill>
        <p:spPr>
          <a:xfrm>
            <a:off x="395280" y="415800"/>
            <a:ext cx="4464000" cy="33372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95280" y="4508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io vuole una tenda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tra le nostre tend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cerca la dimora tra gli uomini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accanto alle tende di tutti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percorre le strad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dell’accampamento di ten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Finalmente si copre questa distanza infinita tra il Dio dei cieli e i poveri uomini della terra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5" descr="tenda_dj"/>
          <p:cNvPicPr/>
          <p:nvPr/>
        </p:nvPicPr>
        <p:blipFill>
          <a:blip r:embed="rId1"/>
          <a:stretch/>
        </p:blipFill>
        <p:spPr>
          <a:xfrm>
            <a:off x="468360" y="2421000"/>
            <a:ext cx="2952720" cy="2093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maiwurai-tents"/>
          <p:cNvPicPr/>
          <p:nvPr/>
        </p:nvPicPr>
        <p:blipFill>
          <a:blip r:embed="rId2"/>
          <a:stretch/>
        </p:blipFill>
        <p:spPr>
          <a:xfrm>
            <a:off x="468360" y="260280"/>
            <a:ext cx="2987640" cy="20527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539640" y="393372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io cerca la compagnia e la condivisione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vuole coinvolgersi con la storia dell’uo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Camminare con noi,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abitare le tende del popolo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condividere con la vita quotidiana dell’uomo, i suoi profumi e odori, le cose piccole e grandi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i drammi e le gioie che riempiono la tenda di vi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6" descr="maiwurai-tentcamp"/>
          <p:cNvPicPr/>
          <p:nvPr/>
        </p:nvPicPr>
        <p:blipFill>
          <a:blip r:embed="rId1"/>
          <a:stretch/>
        </p:blipFill>
        <p:spPr>
          <a:xfrm>
            <a:off x="0" y="333360"/>
            <a:ext cx="5003640" cy="31352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95280" y="458136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Non più una tenda di pelli o teli ma una dimora definitiva: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l’umanità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La nostra umanità diventa la dimora di Dio, una dimora permanente, una dimora viv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La nostra carne diviene la tenda per Dio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6" descr="tent"/>
          <p:cNvPicPr/>
          <p:nvPr/>
        </p:nvPicPr>
        <p:blipFill>
          <a:blip r:embed="rId1"/>
          <a:stretch/>
        </p:blipFill>
        <p:spPr>
          <a:xfrm>
            <a:off x="468360" y="1219320"/>
            <a:ext cx="4895640" cy="32763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611280" y="3357720"/>
            <a:ext cx="42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io continua a voler abitare la nostra vita e la nostra storia uman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Egli continua ad abitare le “tende” della nostra vit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dell’umanità di ciascuno di no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5" descr="cammino"/>
          <p:cNvPicPr/>
          <p:nvPr/>
        </p:nvPicPr>
        <p:blipFill>
          <a:blip r:embed="rId1"/>
          <a:stretch/>
        </p:blipFill>
        <p:spPr>
          <a:xfrm>
            <a:off x="611280" y="333360"/>
            <a:ext cx="2857320" cy="28368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15:26:31Z</dcterms:created>
  <dc:creator>DB</dc:creator>
  <dc:description/>
  <dc:language>en-US</dc:language>
  <cp:lastModifiedBy>cantini</cp:lastModifiedBy>
  <dcterms:modified xsi:type="dcterms:W3CDTF">2010-03-02T12:05:17Z</dcterms:modified>
  <cp:revision>14</cp:revision>
  <dc:subject/>
  <dc:title>PowerPoint Presentation</dc:title>
</cp:coreProperties>
</file>